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18C-7C80-4C9D-8A09-B3DCA68E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2C6-EBE4-4A52-AA76-70553B7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255-300C-4BE4-94EE-AE0CD610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E9D-BD11-4BDC-9C89-F94BA021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42-D15F-48A9-9E30-EF233E0A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174-6D5A-46B6-9245-CDE4DE9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7E6-6ABF-4CA8-BDA0-3E5172F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16A-BE28-4757-9B94-EBA5572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013-AA2A-4CDE-AC73-E32B8995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196-475C-4427-BB08-E8F9D6F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470-B965-4DDF-B3F7-FEDE6A0A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241-12DE-4E76-8087-7466851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1CB7-675B-42BF-A0A1-856A9018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280"/>
            <a:ext cx="6858000" cy="85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cher Name: _________________ Deutscher Name: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uhören) Wer hat welche Tiere und wie viele?  Höre zu und schre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kabeln) Kannst du 8 Tiere erkennen?  Schreib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r/die/d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c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eibt alle Tiere die du kennst mit Artikel (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elche Farbe ha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Sonne?          Ein Pferd?                  Das Gras?                          Ein Kürb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Minidialoge.  Ergänze s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e  – meine – ein – kein - 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 du ______________ Haust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habe _______________ Pferd, aber das ist ____________ Haustier.  Es wohnt auf dem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 Schwester hat _____________ Ra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.  Ratten sind eckelha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Scheibe über Martina.  Benutze all Inform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gern/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nicht 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a * 16 * Tie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Katze * Fisch (m.) * Katze: Mimi, 3 * Fisch: Happy Feet, Katz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eibe die “der” Wörter und “ein/kein” Wörter. (Tab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Schreibe die richtigen “der” oder “ein” Wör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 Pinguin wohnt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kti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t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mag ______________ Schwester nicht.  (y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 du _____________________ Papagei?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Lies diesen Paragraf und antworte die Fragen auf Deuts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5740560"/>
          <a:ext cx="3352680" cy="1117440"/>
        </p:xfrm>
        <a:graphic>
          <a:graphicData uri="http://schemas.openxmlformats.org/drawingml/2006/table">
            <a:tbl>
              <a:tblPr/>
              <a:tblGrid>
                <a:gridCol w="533520"/>
                <a:gridCol w="807840"/>
                <a:gridCol w="716040"/>
                <a:gridCol w="685800"/>
                <a:gridCol w="6094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5715000"/>
          <a:ext cx="3352680" cy="1117440"/>
        </p:xfrm>
        <a:graphic>
          <a:graphicData uri="http://schemas.openxmlformats.org/drawingml/2006/table">
            <a:tbl>
              <a:tblPr/>
              <a:tblGrid>
                <a:gridCol w="533160"/>
                <a:gridCol w="808200"/>
                <a:gridCol w="716040"/>
                <a:gridCol w="685800"/>
                <a:gridCol w="6094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53352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Wö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962520" y="5334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Wö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13:04Z</dcterms:created>
  <dc:creator>udsd</dc:creator>
  <dc:description/>
  <dc:language>en-US</dc:language>
  <cp:lastModifiedBy>ahart</cp:lastModifiedBy>
  <dcterms:modified xsi:type="dcterms:W3CDTF">2012-10-25T14:19:41Z</dcterms:modified>
  <cp:revision>9</cp:revision>
  <dc:subject/>
  <dc:title>Slide 1</dc:title>
</cp:coreProperties>
</file>